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0A107-2B82-44AA-B3E1-5E9F445C84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B864B-7B97-4996-8463-ABE36D60D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7776F-0139-47A7-ADA8-361306F5BC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11EC07-1477-493D-BA59-AE13ADCAD2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5E105-0871-4AD6-9868-6DB5D1DE3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7FF69-ED2D-49E5-8C4A-4F82B9E53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565F8-D812-4DA2-818D-63B065054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44D6C-8DCD-42EA-A7E8-6E142E7D5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0FECF-8B7C-4562-B1FB-7ABB323B6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2B93F-CC66-44DD-B1D9-08DEF8738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06364-9CD7-47B3-A4D5-E83F1BB90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B804A-F610-4611-AEC6-4FF7167B07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EE7F7-009A-4772-BFEB-08C140B829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va in Context</a:t>
            </a:r>
            <a:br>
              <a:rPr sz="4400"/>
            </a:br>
            <a:r>
              <a:rPr b="0" lang="en-US" sz="4400" spc="-1" strike="noStrike">
                <a:solidFill>
                  <a:srgbClr val="000000"/>
                </a:solidFill>
                <a:latin typeface="Arial"/>
              </a:rPr>
              <a:t>Chapter 26</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2286000"/>
            <a:ext cx="6400800" cy="4114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hapter explain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sign principles behind Jav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soft and Jav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 and internationalizat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 and databas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MI, beans and servlet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 and JavaScrip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urity</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known programs downloaded from the internet might crash your machine, delete files, access and transmit private information, fill your disk space, introduce a virus by malice or accid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 provides mechanisms to protect from rogue progr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 is a major design aim of Ja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Java language itself</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 does not allow the use of pointers – which by accident or design can access anything in memo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 is a strongly typed languag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ers (for example) must be used as integers or cast explicitly – checked at compile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 is OO, encapsulated private variables may not be accessed outside the ob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 prevents accessing an uninitialized vari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verifier</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 bytecode at execution is checked to ensure it is safe. Checks ens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 does not include dangerous point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to private variables and methods is vali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s called with parameters are of the correct type and numb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illegal conversions are d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lass loader</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ents classes pretending to be standard Java classes from causing chan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lass loader distinguishes between different packages – particularly between local built-in classes and any 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Java Virtual Machine</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checked the byte code is not directly executed – but interpreted – programs are prevented from accessing raw machine instructions directly preventing any access to memory that contain operating system information and access to files and to the internet by apple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ava program is contained – everything it does is constrai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ray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way a rogue program could do damage is to declare an array then attempt to access elements that do not exist – this is prevented by Java – the JVM checks that array subscripts are within the defined boun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rbage Collector</a:t>
            </a:r>
            <a:endParaRPr b="0" lang="en-US" sz="4400" spc="-1" strike="noStrike">
              <a:solidFill>
                <a:srgbClr val="000000"/>
              </a:solidFill>
              <a:latin typeface="Arial"/>
            </a:endParaRPr>
          </a:p>
        </p:txBody>
      </p:sp>
      <p:sp>
        <p:nvSpPr>
          <p:cNvPr id="72" name="PlaceHolder 2"/>
          <p:cNvSpPr>
            <a:spLocks noGrp="1"/>
          </p:cNvSpPr>
          <p:nvPr>
            <p:ph/>
          </p:nvPr>
        </p:nvSpPr>
        <p:spPr>
          <a:xfrm>
            <a:off x="457200" y="1219320"/>
            <a:ext cx="8229600" cy="5410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s no longer needed are sent to the free memory pool automatically (garbage collection) In C++ the programmer is responsible for garbage colle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Java it is automati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rors can occur in other languages – failing to free memory no longer needed causes accumulation that is ever increas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ing the same piece causes subtle memory corruption (bugs can be difficult to fi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ing memory but continuing to use it causes similar probl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le system</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oking a Java applet controls access to files by specifying a browser op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er decides if the applet will be allowed to write to local files by specifying a browser op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er decides if the applet will be allowed to read/write to local fi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ault setting does not allow access to local fi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 provides several protection mechanism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nguage and the compiler, e.g. absence of pointer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ification of byte code</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lass loader</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ling system and network acces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 security measures are comprehensiv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 cast iron guarantee </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t a malicious programmer cannot penetrate the Java defen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Java relates to the computing and Internet sce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 is constantly being updated with new classes, libraries, tools and technolog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0"/>
            <a:ext cx="82296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centric</a:t>
            </a:r>
            <a:endParaRPr b="0" lang="en-US" sz="4400" spc="-1" strike="noStrike">
              <a:solidFill>
                <a:srgbClr val="000000"/>
              </a:solidFill>
              <a:latin typeface="Arial"/>
            </a:endParaRPr>
          </a:p>
        </p:txBody>
      </p:sp>
      <p:sp>
        <p:nvSpPr>
          <p:cNvPr id="80" name="PlaceHolder 2"/>
          <p:cNvSpPr>
            <a:spLocks noGrp="1"/>
          </p:cNvSpPr>
          <p:nvPr>
            <p:ph/>
          </p:nvPr>
        </p:nvSpPr>
        <p:spPr>
          <a:xfrm>
            <a:off x="457200" y="1219320"/>
            <a:ext cx="8229600" cy="5410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 intimately connected with the internet and intranet (chapter 17)</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s can read files – if they have the proper security privileg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 can read from anywhere, on the net as easily as a local fi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 uses unicode (16 bit) not ASCII (8 bi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 can manipulate characters of all the languages of the worl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 can reside in different places on the net be retrieved and run as necessary. Classes can be stored on computers across the net. When needed can be retrieved, loaded, linked and execu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crosoft versus the world</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soft Windows O.S. currently is around 90% of the world P.C. market runs on Intel processors  “WinT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 led by Sun Microsystems promoted Java – portable software will run on any machine – any 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al skirmishes Sun vs. Microsoft concerned Microsoft’s support for a standard Java system. Other cases involved the alleged monopoly of Microsof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380520"/>
            <a:ext cx="8229600" cy="6248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soft has a product ‘.N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featu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st library of clas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ngly internet orien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al fully OO languages (Visual BASIC, 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ID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s written for .NET compiled into byte code (porting to other O.S. not impossib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t-down versions for handhel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 framework (libraries and command line compilers are free. The IDE is no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too early to access the impact of .NET on Ja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2003 Sun introduced JDS a Java Desktop System</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lternative to MS Windows/MS Off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ncludes GNU/Linux 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 Office (compatible word processor with MS WORD process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eadsheet, database and various tools written in Ja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versions of Java</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significant changes 1.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 quickly progressed to Java 2 (current this tex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 5 now curr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n provides three editions</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Standard for P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Enterprise for organizations requiring major server software, distributed database, internet s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Micro – aimed at embedding code int mobile phones, pagers, smartcards, settop box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ava likely to be a ‘generic’ facility</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an arrayList is gene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 capabilities – enhanc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l libra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MI – remote method Invo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va librarie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and complex - selections from complete li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 language and utilities (described in this tex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 electronic Commerce Framework (send credit card information or electronic funds transf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 security ( digital signatures, authentic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 Media framework (comprehensive – media playba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 Collections framework (data structur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 3D (three dimensional world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tionalization</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problems – different character sets, dates and times (U.K. dd/mm/yy, U.S. mm/dd/y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cy format differ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 doe not provide full internationalization automaticall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es – Java can find locale then make use of it to set date, currency et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code – (16 bit) built into Java, possible to supply a new file with a different languag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till have to plan how you are going to do your internationalization. Java provides significant help via its classes and unicode</a:t>
            </a:r>
            <a:endParaRPr b="0" lang="en-US" sz="28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base - JDBC</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base is big business – aside from word processing and spreadsheets databases regarded as the most vital software components of busine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databases relational – data held in tables – related to each oth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databases can be accessed locally by ‘new’ command or typed in queries. (SQ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s JDBC classes allow a program to pass SQL queries to a database on another machine – results passed 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eature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object oriented, network savvy, interpreted, robust, secure, architecture neutral, portable, high performance, multi-threaded and dynam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MI Remote Method Invocation </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Cs interacting over the internet with other machin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ed comput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corporations using JDBC on standard applications but non-standard ones might not fit. If a corporation wanted software to provide multinational access it could design a window to provide access for everyone to draw on. One computer could provide local and central server could broadcas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known as RMI. CORBA (Common Object Request Broker Architecture a standar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crosoft has DCON</a:t>
            </a:r>
            <a:br>
              <a:rPr sz="4000"/>
            </a:br>
            <a:r>
              <a:rPr b="0" lang="en-US" sz="4000" spc="-1" strike="noStrike">
                <a:solidFill>
                  <a:srgbClr val="000000"/>
                </a:solidFill>
                <a:latin typeface="Arial"/>
              </a:rPr>
              <a:t>Distributed Component Object Model – platform dependent</a:t>
            </a:r>
            <a:endParaRPr b="0" lang="en-US" sz="4000" spc="-1" strike="noStrike">
              <a:solidFill>
                <a:srgbClr val="000000"/>
              </a:solidFill>
              <a:latin typeface="Arial"/>
            </a:endParaRPr>
          </a:p>
        </p:txBody>
      </p:sp>
      <p:sp>
        <p:nvSpPr>
          <p:cNvPr id="102" name="PlaceHolder 2"/>
          <p:cNvSpPr>
            <a:spLocks noGrp="1"/>
          </p:cNvSpPr>
          <p:nvPr>
            <p:ph/>
          </p:nvPr>
        </p:nvSpPr>
        <p:spPr>
          <a:xfrm>
            <a:off x="457200" y="2666520"/>
            <a:ext cx="8229600" cy="3459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MI allows: setup Java on a server –   machines calls methods from the server – passing paramet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va Beans</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usable software component – manipulated in the a builder too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user can write beans (Java classes written in a particular sty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ean can provide GUI for the programmer ( e.g. a spreadsheet bean or a spell checker bea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an provides an ic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grammer can usually incorporate and manipulate i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on Java beans</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ean may be design coded or purchased. Programmer has to follow particular naming and style conven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in a bean is written to allow it to be incorporated. In some cases no code is requir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corporate the bean into an application a special bean development (BDK) environment, which allows beans to be selected, grabbed and dropped into an application or connected to other bea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 BASIC is the leader in this form of re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va Servlets</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web programs on a server interact with software (browser) the client may enter a name into a field in a web page the data is passed to the server which may access a databa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r side software: HTTP/HTML, CGI, Perl, C/C++ and Jav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 servlets are an alternative to CG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rvlet is a Java program coded with certain conventions with utility classes for accessing data from a cli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Servers: Apache, Microsoft IIS</a:t>
            </a:r>
            <a:br>
              <a:rPr sz="4000"/>
            </a:br>
            <a:r>
              <a:rPr b="0" lang="en-US" sz="4000" spc="-1" strike="noStrike">
                <a:solidFill>
                  <a:srgbClr val="000000"/>
                </a:solidFill>
                <a:latin typeface="Arial"/>
              </a:rPr>
              <a:t>allow servlets to be executed</a:t>
            </a:r>
            <a:endParaRPr b="0" lang="en-US" sz="40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ef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time web page used and data sent to server single servlet creates a thread (In CGI, a fresh copy of the CGI program is created – ineffici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rvlet can be run in sandbox (safe area) provides better secur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rvlet is platform independ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vaScript</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cripting language for web progra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scape named 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differences Java vs. JavaScrip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Script embedded in 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superficially like Java (keywords, curly brackets) does not allow creation of classes, inheritance, object based not O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kly typed – variables need not be named in advance, type cannot be specifi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on JavaScript</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only run in a brows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only access elements of a browser (HTML – from controls and mouse mov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not access fi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not be used to write applications or apple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ce Java is learned</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Script relatively straight forwar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s, control structures, methods, dot ‘.’ object/method not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Script has all these but does them in a slightly different wa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in computer indust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mendous growth of internet u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ce of web interaction and servi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tion in cost of network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sion of computers and telecommunic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bedding of computers in consumer produc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med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tal need for secure compu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 was created to be simple (not complex like C++)</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gle inheritance</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ointer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hundreds of libraries – takes time to master)</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city = ease of learning</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 widely and completely understood, implemented and adop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ght against dominance of Microsoft Windows and Intel P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 of .NET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of the conclusion topics could fill a boo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as of security, networking not covered in the tex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Java products coming rapidly, often significa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website ‘http://java.sun.com’ for current information – new products, help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 Oriented</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 is O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s are constructed of objects in turn created from classes – promotes modular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es can inherit from superclasses – promotes re-usable co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s reliability (tried and tested softw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atform independence</a:t>
            </a:r>
            <a:br>
              <a:rPr sz="4000"/>
            </a:br>
            <a:r>
              <a:rPr b="0" lang="en-US" sz="4000" spc="-1" strike="noStrike">
                <a:solidFill>
                  <a:srgbClr val="000000"/>
                </a:solidFill>
                <a:latin typeface="Arial"/>
              </a:rPr>
              <a:t> (portability)</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a program into a different platfor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 created to be used with any computer and operating syste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 compiles into a machine independent code (‘byte code’) which runs on a Java Virtual Machine (JVM.) A small program 256kiloByt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s on a whole number of processors under Windows, Unix, GNU/Linux</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Java program is compiled the libraries are retained in the bytecode – not linked until runtim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 bytecode transmitted rapidly on the networ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Java begins execution libraries specific to the site invok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libraries are updated the latest version automatically cal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types defined to have size independent of any particular machine unlike C++ where data sizes 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ormanc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 code compact so it goes around the internet fast. The linking software not transmitted (linked at execution time on the target mach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 performance slows because the bytecode is interpreted (by the JVM) C/C++ programs compiled directly – about 10 times faster than Java but they are not port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2T20:38:46Z</dcterms:created>
  <dc:creator> </dc:creator>
  <dc:description/>
  <dc:language>en-US</dc:language>
  <cp:lastModifiedBy> </cp:lastModifiedBy>
  <dcterms:modified xsi:type="dcterms:W3CDTF">2005-05-12T23:19:18Z</dcterms:modified>
  <cp:revision>4</cp:revision>
  <dc:subject/>
  <dc:title>Java in Context Chapter 26</dc:title>
</cp:coreProperties>
</file>